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44EB0-22EA-47AF-A9B7-98C0E953E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1F8F6-15CF-4E6E-A9F9-E5BAD84D4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53F0B-E993-4BC4-86C2-BC053F861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4CBE0-3BE0-446D-972D-020304390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FD06E-6411-4D42-8144-D45A287FF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4B19B-3420-4E94-9DBB-7F1F275A4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5C527-34D0-4C66-AF4D-8147A2FC0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1CCF3-3B1D-4519-AC71-EF939578D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E585E-65E2-4651-9B0D-EFE03EE25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36EC2-821F-4A8E-8596-F9B9A3F09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C7C6C-1CEE-457B-B6FE-BB90FA031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76AD6-51E1-4122-A345-2DB2F9EDA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2834-65BE-4C06-947B-4ABBB80B88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ricoh.com/environment/society/report/02/img/pop17_bod_img.jpg&amp;imgrefurl=http://www.ricoh.com/environment/society/report/02/p17.html&amp;usg=__DHVxskivW9AjkoEE_Ec6c8IUDHQ=&amp;h=358&amp;w=480&amp;sz=87&amp;hl=en&amp;start=2&amp;tbnid=O32ji-8MpkLQuM:&amp;tbnh=96&amp;tbnw=129&amp;prev=/images%3Fq%3Dtrans%2Bsiberian%2Brailway%26hl%3Den%26safe%3Dactive%26rls%3DIBMA,IBMA:2006-28,IBMA:e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lobosapiens.net/data/reportpix/thumb/novosibirsk-report-1708-5.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sbras.ru/sicc/siberia3.gif&amp;imgrefurl=http://www.sbras.ru/sicc/siberia_.htm&amp;usg=__QvU4fcfDMPdtD5F9p-Gs3UO5AAM=&amp;h=233&amp;w=350&amp;sz=59&amp;hl=en&amp;start=47&amp;tbnid=8sZHuN1OcbEYgM:&amp;tbnh=80&amp;tbnw=120&amp;prev=/images%3Fq%3DSiberia%26start%3D40%26ndsp%3D20%26hl%3Den%26safe%3Dactive%26rls%3DIBMA,IBMA:2006-28,IBMA:en%26sa%3DN"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854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Eras Bold ITC"/>
              </a:rPr>
              <a:t>Trans-Siberian Railway</a:t>
            </a:r>
            <a:endParaRPr b="0" lang="en-US" sz="4400" spc="-1" strike="noStrike">
              <a:solidFill>
                <a:srgbClr val="000000"/>
              </a:solidFill>
              <a:latin typeface="Arial"/>
            </a:endParaRPr>
          </a:p>
        </p:txBody>
      </p:sp>
      <p:sp>
        <p:nvSpPr>
          <p:cNvPr id="42" name="PlaceHolder 2"/>
          <p:cNvSpPr>
            <a:spLocks noGrp="1"/>
          </p:cNvSpPr>
          <p:nvPr>
            <p:ph type="subTitle"/>
          </p:nvPr>
        </p:nvSpPr>
        <p:spPr>
          <a:xfrm>
            <a:off x="1295280" y="1676160"/>
            <a:ext cx="6400800" cy="3886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Layne Taylor, Adrienne Hill, Sydney Roberts</a:t>
            </a: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e with us on the Trans-Siberian Rail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04920" y="1828440"/>
            <a:ext cx="4038480" cy="396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got on the train 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cow. The people 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in told us that i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the longes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railroad 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rth. It is six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sand miles lo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 descr="">
            <a:hlinkClick r:id="rId1"/>
          </p:cNvPr>
          <p:cNvPicPr/>
          <p:nvPr/>
        </p:nvPicPr>
        <p:blipFill>
          <a:blip r:embed="rId2"/>
          <a:stretch/>
        </p:blipFill>
        <p:spPr>
          <a:xfrm>
            <a:off x="4952880" y="1752480"/>
            <a:ext cx="3505320" cy="41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09480"/>
            <a:ext cx="4038480" cy="5592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r first stop was 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osibirsk  which is 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beria. We spent the night there It is the larges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y in Siberia, it has 1.6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lion people. Wher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topped at 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ssian art gallery. </a:t>
            </a:r>
            <a:endParaRPr b="0" lang="en-US" sz="2800" spc="-1" strike="noStrike">
              <a:solidFill>
                <a:srgbClr val="000000"/>
              </a:solidFill>
              <a:latin typeface="Arial"/>
            </a:endParaRPr>
          </a:p>
        </p:txBody>
      </p:sp>
      <p:pic>
        <p:nvPicPr>
          <p:cNvPr id="46" name="" descr="">
            <a:hlinkClick r:id="rId1"/>
          </p:cNvPr>
          <p:cNvPicPr/>
          <p:nvPr/>
        </p:nvPicPr>
        <p:blipFill>
          <a:blip r:embed="rId2"/>
          <a:stretch/>
        </p:blipFill>
        <p:spPr>
          <a:xfrm>
            <a:off x="5334120" y="2209680"/>
            <a:ext cx="3124080" cy="31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04920" y="1066320"/>
            <a:ext cx="4572000" cy="541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Outside it is freez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dry. The avera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in Siberi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34 degrees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rinheight. Russia ha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taigas. A taiga is an evergreen forest in subarctic climate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
            <a:hlinkClick r:id="rId1"/>
          </p:cNvPr>
          <p:cNvPicPr/>
          <p:nvPr/>
        </p:nvPicPr>
        <p:blipFill>
          <a:blip r:embed="rId2"/>
          <a:stretch/>
        </p:blipFill>
        <p:spPr>
          <a:xfrm>
            <a:off x="5181480" y="2133720"/>
            <a:ext cx="312444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6840" y="533160"/>
            <a:ext cx="4724280" cy="601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r next stop was at Ulan Ude. Where we saw a huge sculpture of Lenin’s head. It is in the Guinness worlds records book for the biggest statue of Lenin. Ulan Ude is the third largest city in eastern Siberia. It has subarctic climate zones. </a:t>
            </a:r>
            <a:endParaRPr b="0" lang="en-US" sz="2800" spc="-1" strike="noStrike">
              <a:solidFill>
                <a:srgbClr val="000000"/>
              </a:solidFill>
              <a:latin typeface="Arial"/>
            </a:endParaRPr>
          </a:p>
        </p:txBody>
      </p:sp>
      <p:pic>
        <p:nvPicPr>
          <p:cNvPr id="50" name="" descr=""/>
          <p:cNvPicPr/>
          <p:nvPr/>
        </p:nvPicPr>
        <p:blipFill>
          <a:blip r:embed="rId1"/>
          <a:stretch/>
        </p:blipFill>
        <p:spPr>
          <a:xfrm>
            <a:off x="5486400" y="2590920"/>
            <a:ext cx="317196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4:03:56Z</dcterms:created>
  <dc:creator>laynetaylor</dc:creator>
  <dc:description/>
  <dc:language>en-US</dc:language>
  <cp:lastModifiedBy>laynetaylor</cp:lastModifiedBy>
  <dcterms:modified xsi:type="dcterms:W3CDTF">2008-11-25T14:16:52Z</dcterms:modified>
  <cp:revision>4</cp:revision>
  <dc:subject/>
  <dc:title>Trans-Siberian Railway</dc:title>
</cp:coreProperties>
</file>